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82C-2431-4A4B-BDBD-A0C3A321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4CE-8AEF-4F0F-A796-146B9CA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3DE-9F70-4E21-B003-7F555C00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608-A57A-4EC2-BC83-BDEC3A17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4C6-623E-4C01-ADA8-431142C8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791-C54D-444E-8A51-F539A5F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C18-BB77-426D-92AF-439B490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B88-8C2E-406F-A55F-E3F30F2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946-ED4C-4C7C-8C13-1A56A92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28B-59F3-45B8-9D4F-E4E0C25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E94-FC96-4638-B2B2-7EE97F6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531-A251-499C-9279-9B36223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E2A-AC91-43BF-B02E-8011A6AA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5480" y="981000"/>
            <a:ext cx="63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520" y="1916280"/>
            <a:ext cx="84384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IDSS consortium developed survey science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imary science driver for the W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-level archive requirements specified by the J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sulted with UKIDSS (via CSS), VISTA (via VDF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), CASU &amp; WF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eneral detail as to archive 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cluded open time considerations as well as UKID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7120" y="1125360"/>
            <a:ext cx="65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2800" y="2349360"/>
            <a:ext cx="8141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s driving development of the WFCAM Science Arch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.0 is well specified and we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additional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enhanced functionality (user-specified processing o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29840" y="98100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6280" y="2205000"/>
            <a:ext cx="739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IDSS subsurve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Area Survey:                 4000 sq. deg, Y,Jx2,H,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lactic Plane Survey:           1800              , J,H,Kx3 (H2x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lactic Clusters Survey:      1600              , J,H,K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ep eXtragalactic Survey:       35              , J,(H),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tra Deep Survey:                       0.77          , J,H,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29840" y="1052640"/>
            <a:ext cx="66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1240" y="2349360"/>
            <a:ext cx="742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FAU followed the “20 queries” approach (eg. SD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developed “20 usages” of the WSA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11 key science goals of UKI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further science goals within sub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a few general data-exploration/data-mining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21680" y="1042920"/>
            <a:ext cx="66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7720" y="1989000"/>
            <a:ext cx="799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usage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9: From the UKIDSS GPS, provide a list of all sources that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ightened by a given amount in the K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080" y="3573360"/>
            <a:ext cx="823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lex usage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1: Count the number of sources in the UKIDSS LAS which satis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YJH colour constraints where SDSS i’z’ fluxes a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sition are less than 2-sigma. User then refines …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atisfied, user requests a list … and finder charts in JHK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ach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29840" y="1052640"/>
            <a:ext cx="65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76400" y="2492280"/>
            <a:ext cx="945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FAU produced a Science Requirements Analysi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tarting point: top-level archive reqs. &amp; “20 usag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veloped through analysis and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intention was to distil general requirements into explicit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 to th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functionalit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science 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21680" y="1042920"/>
            <a:ext cx="66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920" y="2271600"/>
            <a:ext cx="727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IDSS reviewed the SRAD in November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much discussion concern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suggested some changes/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WFAU updated the SRAD in Ja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AD is now agreed between various interest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6760" y="1125360"/>
            <a:ext cx="67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V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6600" y="2205000"/>
            <a:ext cx="593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functional requir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image, catalogue and ancilla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.0” functionality at first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.0” one year after survey operations beg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6760" y="1125360"/>
            <a:ext cx="68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2640" y="2133720"/>
            <a:ext cx="802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1.0 functionality based on familiar data service conce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upport simple usages, eg. positional searches/finder char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ximity to resolvable sourc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upport browsing of contents &amp;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upport flexible querying, ie. SQ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upport joint queries with other commonly used survey 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SDSS and legacy (photographic)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support usages based o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atabase driven produc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merged source catalogues, default image produc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5120" y="1052640"/>
            <a:ext cx="66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Requirements Analysis (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6280" y="1916280"/>
            <a:ext cx="823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2.0 functionality based on enhanced user expectations, 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usages based on user-specified prescriptions at ac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nhanced catalogue products, eg. proper mo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-driven co-located photometry between IR &amp; opti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enhanced pixel usages, eg. arbitrary stacks/mosa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user-specified analysis of pixel data, eg. source extra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-driven pho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upload of user-supplied data (catalogues/images) for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/que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ata exploration/data mining usages, perhaps via remot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UI in lieu of full-blown grid-enabled function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07:51Z</dcterms:created>
  <dc:creator>Nigel Hambly</dc:creator>
  <dc:description/>
  <dc:language>en-US</dc:language>
  <cp:lastModifiedBy>Nigel Hambly</cp:lastModifiedBy>
  <dcterms:modified xsi:type="dcterms:W3CDTF">2003-04-14T08:25:54Z</dcterms:modified>
  <cp:revision>20</cp:revision>
  <dc:subject/>
  <dc:title>Slide 1</dc:title>
</cp:coreProperties>
</file>