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8B0-A240-4DAF-9108-4C6F21EB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F57-35F7-4714-A16C-7B03D190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74B-48DB-4331-8F59-0FED33B2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25F-9E27-44CB-9BDC-FC03A481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304-A18E-41AE-9C25-E3E5561B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43B6-D8F0-4BC9-BA4C-A297D50E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B63-2039-4A03-9DFD-54CB919A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176-2D4F-4296-84A5-956D3367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444-DE74-4566-9B1F-E9C9D5E6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646E-E01A-4251-9910-2FB8E09E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AA49-C298-46BB-A5BA-990BF599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E8A-7633-451B-B42F-A1DA4D76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51AB-16C9-49B1-A727-89737F7A91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50160" y="2909880"/>
            <a:ext cx="26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overview talk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220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18200" y="6568920"/>
            <a:ext cx="4141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67280" y="6380280"/>
            <a:ext cx="414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1413000"/>
            <a:ext cx="705636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2 functionality in Ja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simple server-based too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stograms and xy plots from returned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D 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 large mosaics/stacks 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-tuneable re-extraction and st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ver all services as web services for Astro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58920" y="907920"/>
            <a:ext cx="6048360" cy="54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3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ced server based visualis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nnable large area i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-D plotting and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er based data analysis too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lation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meter clust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al component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ility to upload user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898000" y="318132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/goal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67280" y="6380280"/>
            <a:ext cx="414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7640" y="318132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proces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67280" y="6380280"/>
            <a:ext cx="414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32000" y="765000"/>
            <a:ext cx="6048360" cy="60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ig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pha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ments / analysis and design /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princip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d approach to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rn from SDS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otype programm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s design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47640" y="1413000"/>
            <a:ext cx="604872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quirements ca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p level requirements by J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 science useages from UKI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==&gt; 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AD agreed with al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60360" y="765000"/>
            <a:ext cx="60483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alysis and desig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ware : separate pixel/catalogue sol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MS V1 : 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MS V2 : TBD (scaleability concer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onal modelling :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ation tasks : designed but not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xel processing V1 : all prototy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xel processing V2 : unde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interface : designed and  prototy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94000" y="318132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/proces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67280" y="6380280"/>
            <a:ext cx="414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394360" y="3181320"/>
            <a:ext cx="22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prototype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38560" y="6380280"/>
            <a:ext cx="414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47640" y="1413000"/>
            <a:ext cx="604872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eriments/prot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volume / scal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MS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50520" y="29098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intro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67280" y="6380280"/>
            <a:ext cx="414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476360" y="907920"/>
            <a:ext cx="6912000" cy="48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a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COSM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GB/da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ed to RAID array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S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 GB/d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age/ingest not 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 challenge is trawl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ve to parallellised modul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S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 GB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ieve WSA design will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00000" y="981000"/>
            <a:ext cx="7272360" cy="51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b technology and 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design, cgi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dFG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 interfac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cat, serv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S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tto large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SA V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SA V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 services, VO pub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SA V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i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87280" y="923760"/>
            <a:ext cx="669636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BMS de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CO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a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DSS-ED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dFG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 Server on small D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S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 Server on large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SA V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B2 test (not publ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SA V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765000"/>
            <a:ext cx="604872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rdware an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ety of loaned equip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SI vs IDE vs fibre lin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issue : aggregate query r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s hardware type, RAID level, number of dis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 : 80 MB/s   target 300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U-WFAU transfer tests : 1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te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CP tuning / firewall upgrades / Grid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752920" y="2676600"/>
            <a:ext cx="23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/prototype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0220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754000" y="267660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plan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2200" y="6308640"/>
            <a:ext cx="41418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547640" y="1413000"/>
            <a:ext cx="669636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agemen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DFS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ers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cMah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w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Lea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mana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i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Leadershi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1413000"/>
            <a:ext cx="6696360" cy="37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KI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am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KID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ren, Law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ST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PB, VDFS Man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i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SC, AG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187280" y="1125360"/>
            <a:ext cx="6696360" cy="48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verab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1,2,3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ntt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ort matri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sk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ekly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terly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iodic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71640" y="620640"/>
            <a:ext cx="6696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y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FCAM CD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AD agree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SA CD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SA prototy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1 opera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n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2 CD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2 opera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SA Phase B st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b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SA opera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79640" y="1628640"/>
            <a:ext cx="525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753640" y="267660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/plan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0220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753280" y="2676600"/>
            <a:ext cx="27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/overview talk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0220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350160" y="2909880"/>
            <a:ext cx="13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/intro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67280" y="6380280"/>
            <a:ext cx="414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350520" y="290988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goal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67280" y="6381720"/>
            <a:ext cx="414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87280" y="1093680"/>
            <a:ext cx="604872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WSA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est to DB,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e to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analysi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y-wide process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alib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iring, upper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 motion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ey pixmaps and catalogu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7280" y="1568520"/>
            <a:ext cx="60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at is a "science archive"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just a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ct most science will be don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rough th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-ready from the out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4920" y="5127480"/>
            <a:ext cx="528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=&gt; calibrated/documented/engine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=&gt; tool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47640" y="1413000"/>
            <a:ext cx="6769440" cy="31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vels of archiv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1 = area subset pixel maps and catalo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2 = complex queries on catalo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2a = joint queries with other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3 = database mani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68800" y="5084640"/>
            <a:ext cx="41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et these aspirations in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3816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FCA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cien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01840" y="6353280"/>
            <a:ext cx="4141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tical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ie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pril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900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1187280" cy="736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1413000"/>
            <a:ext cx="6769440" cy="48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1 functionality Ja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wse frame DB,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 cut-outs and catalogues 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 mosaics to 0.8 deg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x/cone search on UKIDSS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searches with 2MASS, SSS, S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 queries on any parameter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09:07:51Z</dcterms:created>
  <dc:creator>Nigel Hambly</dc:creator>
  <dc:description/>
  <dc:language>en-US</dc:language>
  <cp:lastModifiedBy>Andy Lawrence</cp:lastModifiedBy>
  <dcterms:modified xsi:type="dcterms:W3CDTF">2003-04-15T12:14:51Z</dcterms:modified>
  <cp:revision>5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68211335</vt:r8>
  </property>
  <property fmtid="{D5CDD505-2E9C-101B-9397-08002B2CF9AE}" pid="3" name="_AuthorEmail">
    <vt:lpwstr>al@roe.ac.uk</vt:lpwstr>
  </property>
  <property fmtid="{D5CDD505-2E9C-101B-9397-08002B2CF9AE}" pid="4" name="_AuthorEmailDisplayName">
    <vt:lpwstr>Andrew Lawrence</vt:lpwstr>
  </property>
  <property fmtid="{D5CDD505-2E9C-101B-9397-08002B2CF9AE}" pid="5" name="_EmailSubject">
    <vt:lpwstr>WSA review presentations</vt:lpwstr>
  </property>
</Properties>
</file>