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EDE1-65F4-4099-93E4-B980C67D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706D-3D6A-4ADE-AFDF-6CB094D5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59B6-D143-4550-9625-B705E92F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DD12-BF19-4927-B36D-69458A0D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9DEF-CE1F-4F36-A3B2-E55FC231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50B8-858C-4600-8AA8-A6BD0390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56AA-E709-4FDC-9AC1-2AC91006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930E-20C5-4E80-8A5F-1D17DE3B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8440-0BD1-4914-86CD-0CFF9064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9C23-6223-47A8-81AA-D74E755C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5E9F-ED90-4D82-9191-8C2DB95E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380F-2B09-4C6B-9466-C6D84F96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C67E-1201-49D1-8D56-FADD14BFB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 Design Review, 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0200" y="2133720"/>
            <a:ext cx="485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FCAM Science Arch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 Design Review, 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258920" y="2637000"/>
            <a:ext cx="6591240" cy="1114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78920" y="155736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FCAM data flow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87120" y="4292640"/>
            <a:ext cx="69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6 is subject to CASU/WFAU interfac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 Design Review, 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2560" y="692280"/>
            <a:ext cx="575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 control: fundamen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64800" y="1557360"/>
            <a:ext cx="7077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ndard FIT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fer via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ferred data will consist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processed pixels (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raw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library calibration &amp; confidence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derived source catalog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ividual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uperfram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s the basic archived image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programmes having low total volumes of pixel da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ndard pipeline combined image products will 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 transferred &amp;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 Design Review, 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195280" y="1052640"/>
            <a:ext cx="44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 control: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62640" y="2421000"/>
            <a:ext cx="7195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ages &amp; catalogues: M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lenames: follow existing data flow system conv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ixel data: primary-HDU/extension-HDU hea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talogue data: extension HDU headers and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fer methods &amp;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itical Design Review, 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040400" y="981000"/>
            <a:ext cx="67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 control: outstanding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5720" y="1773360"/>
            <a:ext cx="7635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venance data (eg. for combined im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new keyword PROV0000, 1, 2, …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talogue attribute close-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words to aid curation, eg. SURVEY, SURVEY_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UKIDSS &amp; survey preparation tool geared u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tributes and metadata produced by list-driven phot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DS headers at UKIRT  =&gt;  MEF h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 more detailed JAC/CASU ICD after hardware revie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09:07:51Z</dcterms:created>
  <dc:creator>Nigel Hambly</dc:creator>
  <dc:description/>
  <dc:language>en-US</dc:language>
  <cp:lastModifiedBy>Nigel Hambly</cp:lastModifiedBy>
  <dcterms:modified xsi:type="dcterms:W3CDTF">2003-04-15T09:58:19Z</dcterms:modified>
  <cp:revision>8</cp:revision>
  <dc:subject/>
  <dc:title>Slide 1</dc:title>
</cp:coreProperties>
</file>