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56CE-639B-4BEE-A255-DC49F2D4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CA1-C44B-4B76-9125-68031B46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41B9-2D49-4376-9B5B-5242AA28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756D-61E6-4155-9FD5-3FDDDACE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5D3-9F6E-4B8E-A04B-42AF65BD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D208-B80B-4928-8717-3950623A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E73-37AF-48F2-B239-71C8D90D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562-1AEF-451F-8122-174869A3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6FAD-A307-4DE5-8F7D-857D18D4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9A87-929B-4ACB-81B1-FBC6831D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A2EA-17E6-425B-8DF4-7A98F708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DE7-F95E-466B-9B50-B4C02E26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4C45-0E36-4F2B-9B01-A9ACCC2C4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94920" y="2349360"/>
            <a:ext cx="485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FCAM Science Arch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1120" y="1052640"/>
            <a:ext cx="81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perCOSMOS Science Archive (S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5760" y="1916280"/>
            <a:ext cx="7704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FCAM Science Archive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isting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d hoc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lat file archive (inflexible, restricted ac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-implemented in an R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talogue data only (no image pixe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26 Tbytes of catalogu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lement a working service for users &amp; developer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ercise prior to arrival of Tbytes of WFCAM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87280" y="1484280"/>
            <a:ext cx="67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A has several similarities to W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53160" y="2637000"/>
            <a:ext cx="6753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atial indexing is required over celestial 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ny source attributes in common, eg. posi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ightness, colour, shape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lti-colour, multi-epoch merged sourc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ults from multiple measurements of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1120" y="981000"/>
            <a:ext cx="82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method: “20 queries approac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3000" y="1773360"/>
            <a:ext cx="743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et of real-world astronomical queries, expressed in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s joint queries between the SSA and SD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4120" y="2997360"/>
            <a:ext cx="8361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/* Q14: Provide a list of stars with multiple epoch measurement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have light variations &gt;0.5 mag.  *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bjid into 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ro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ergedcatalo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whe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classR1=1 and classR2=1 and qualR1&lt;128 and qualR2&lt;12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abs (bestmagR1-bestmagR2) &gt; 0.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23120" y="1332000"/>
            <a:ext cx="69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ity – Relationship Models (ERM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71320" y="2565360"/>
            <a:ext cx="587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ised, DBMS –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mple, pictorial summary of relation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Ms map directly to tabl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270520" y="404640"/>
            <a:ext cx="40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A relational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79280" y="1052640"/>
            <a:ext cx="48704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146200" y="1844640"/>
            <a:ext cx="3757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ry simple relation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tal of 5 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talogues have ~256 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rds with mainly 4-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tributes, ie. 50 to 60 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 2 tables dominate the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urveyCat: 0.82 T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MergedCat: 0.44 T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203640" y="1341360"/>
            <a:ext cx="5761080" cy="3160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66960" y="692280"/>
            <a:ext cx="65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A has been implemented and 1% of data inges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10080" y="2349360"/>
            <a:ext cx="7610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 prototype for V1.0 W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indows/SQL Ser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&gt; “SkyServ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l-world que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d to exercise 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00% ingested and online by end Q2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st-bed for user access tools and archive scientist c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120" y="1052640"/>
            <a:ext cx="776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SA has significant differences, howe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8640" y="2198520"/>
            <a:ext cx="743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talogu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pixel 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ibration and other extensive meta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ience – driven, nested survey programmes (as opp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SSA “atlas” maps of whole sky)  result in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 structu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uration &amp; update within DBMS (whereas SSA is a f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 product ingested once into the DBM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8560" y="2781360"/>
            <a:ext cx="80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FCAM Science Archive : relation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1680" y="981000"/>
            <a:ext cx="39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matic picture of the W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8452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46080" y="1413000"/>
            <a:ext cx="4604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ixe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one flat – file image store;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yer restricts public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filenames and all metadata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cked in DBMS table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restricted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talog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WFAU incremental (no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Public, released D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external survey datasets 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412000" y="836640"/>
            <a:ext cx="35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FCAM pixe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36080" y="1773360"/>
            <a:ext cx="676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ixel data consist of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multifram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ombifram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SA parl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ored as flat files (not BLOBs in the DB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adata are stored in the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brary calibration frames are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fault image products are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20960" y="971640"/>
            <a:ext cx="70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design: key requirements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88760" y="1844640"/>
            <a:ext cx="5596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lexibil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gested data are rich in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ily ingest; daily/weekly/monthly c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ny varied usage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ct proprietorial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low for changes/enhancements in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205880" y="1484280"/>
            <a:ext cx="4651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FCAM multifr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any pipeline product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tains instrumental “paw print”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tinct images (WSA calls the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ctor frame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ade up from other ing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ames  (eg. microstep interleave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ultifr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SA includes difference images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ltifra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50920" y="1484280"/>
            <a:ext cx="340020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44480" y="1916280"/>
            <a:ext cx="7590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FCAM combiframe – any pipeline or archive product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 the result of combination process on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tor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ulti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eg. pipeline dither/stack/mosaic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eg. archive default stack/mosaic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NB: combiframe may still reflect the “paw print” so can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ltiframe characteris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0" y="1197000"/>
            <a:ext cx="6227640" cy="4889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004720" y="1125360"/>
            <a:ext cx="32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frame 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80920" y="1916280"/>
            <a:ext cx="2865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gramme &amp;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&gt; v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brary 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ltiframes stored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imary/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DU keys log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ored &amp; 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s will work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I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0" y="1052640"/>
            <a:ext cx="6227640" cy="50576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644000" y="836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frame 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60040" y="1341360"/>
            <a:ext cx="3786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ery combiframe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venance link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lti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ividual calibration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t reqd. but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fidence frame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biframe may consis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ltiframe-like 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bi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3480" y="1268280"/>
            <a:ext cx="82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trometric and photometric calibration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" y="2133720"/>
            <a:ext cx="750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 to store calibration information (SR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alibration is required – esp. photometric (SR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alibration coefficients must be stored (SR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-dependence (versioning) complicates the rel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ibration data are related to images; source detection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images and hence their relevant calibra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11280" y="2068560"/>
            <a:ext cx="7812000" cy="4456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-4320" y="0"/>
            <a:ext cx="35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ltiframe calibration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5040" y="620640"/>
            <a:ext cx="464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-ups” define nightly 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amp; filter combin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extinctions have nightly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zps have detector &amp; nightly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82960" y="333360"/>
            <a:ext cx="408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efficients split into current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vious 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rsioning &amp; timing reco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ighly non-linear syst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e allowed for via 2D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0" y="2276640"/>
            <a:ext cx="5508720" cy="3614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183680" y="1341360"/>
            <a:ext cx="37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biframe calibration da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3280" y="1341360"/>
            <a:ext cx="3423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 “set-ups”: each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parately calibra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ctor combi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e catered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uptidude”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ored for each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par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0" y="1413000"/>
            <a:ext cx="5699160" cy="466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265840" y="76500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alogue data: gener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94560" y="1484280"/>
            <a:ext cx="3140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back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enitor imag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ibra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ction list for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e (or se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-surve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ged source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ge events reco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re-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0" y="1197000"/>
            <a:ext cx="5292720" cy="4557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050920" y="549360"/>
            <a:ext cx="44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UKIDSS LAS, GPS &amp; G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16920" y="1052640"/>
            <a:ext cx="372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S, GPS &amp; GCS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e detection &amp;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re-measurement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ividual merged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source re-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te curation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merge log (one per pro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current/repeat det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primary/secondary (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la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new/old merge image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to trigg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-measure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6760" y="-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179280" y="1268280"/>
            <a:ext cx="6643800" cy="48513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689120" y="1890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WFCAM data: gener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87720" y="907920"/>
            <a:ext cx="657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on-WFCAM survey has a stored cat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-neighbour ta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records nearby sources between any two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yields associated (“nearest”) sour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24400" y="2708280"/>
            <a:ext cx="41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WFCAM list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image data ar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B: V2.0 requi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96760" y="1052640"/>
            <a:ext cx="718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design: key requirement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3160" y="1916280"/>
            <a:ext cx="6515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abil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~2 Tbytes of new data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erating lifetime &gt;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tain performance for increasing data volu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rtabil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1.0/V2.0 phased approach to hardware/OS/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79280" y="1557360"/>
            <a:ext cx="6284880" cy="4513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42200" y="189000"/>
            <a:ext cx="57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UKIDSS LAS &amp; relationship to SD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1680" y="1125360"/>
            <a:ext cx="477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KIDSS LAS overlaps with SD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measu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at positions defined by IR sour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t in optical image 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do not currently envis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lementing this the other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e. optical source positions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IR image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862440" y="333360"/>
            <a:ext cx="5281560" cy="6093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81360" y="1047600"/>
            <a:ext cx="41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uration – set of entities to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-DBMS proces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-4320" y="1989000"/>
            <a:ext cx="457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chived programmes h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required filter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required join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required list – driv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asurement produc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release da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final curation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one or more curation timest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set of curation procedure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fined for the arch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403280" y="1197000"/>
            <a:ext cx="60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SA relational design: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10960" y="2133720"/>
            <a:ext cx="6582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al design is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is independen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hardwar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OS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RDBMS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al design is the same for V1.0 &amp; V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e relational design is applicable to V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97840" y="2421000"/>
            <a:ext cx="734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FCAM Science Archive: V1.0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269440" y="1125360"/>
            <a:ext cx="426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: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90440" y="1982880"/>
            <a:ext cx="6669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QL 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extensively annot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CVS vers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aningful table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eg. Programme, Filter, Multiframe, lasSourc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voiding excessively long names, but must be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eg. DifferenceImage, CurrentNightlyZP, …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41440" y="112536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: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29520" y="2133720"/>
            <a:ext cx="5493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aningful attribute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follow FITS keywords where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clear but short, eg. X, Xerr, KronFlux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long names unavoidab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g. yAperFlux13err in lasSource ?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ural” units, not scaled for the 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ct storag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84000" y="981000"/>
            <a:ext cx="75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unique identifiers (U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1720" y="1700280"/>
            <a:ext cx="8007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aningful UIDs, not arbitrary DBMS-assigned sequence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llowing relational model, compound UIDs from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tributes, 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detection UID is a combination of sequence no. on 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detector 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detector UID is a combination of extension no. of 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multiframe 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t: top-level UIDs compounded into new attribute to av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pying many columns down the relational hierarchy, 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meaningful multiframe UID is made up from UKIRT run no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observation and ingest d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617840" y="1197000"/>
            <a:ext cx="58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: ke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11320" y="2060640"/>
            <a:ext cx="6848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QL scripts under CV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imary ke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single UID, eg. lasSource has primary key sourc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compound UID, eg. PreviousNightlyExt has pri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(JulianDay,filterID,vers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eign ke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as in standard RDBMS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403280" y="189000"/>
            <a:ext cx="530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: SQL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picture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1414440"/>
            <a:ext cx="9144000" cy="54435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163640" y="1557360"/>
            <a:ext cx="162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lti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amp; nea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ighb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763280" y="0"/>
            <a:ext cx="541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: SQL Ser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picture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78360" y="2349360"/>
            <a:ext cx="1564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KID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nea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ighb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79280" y="1197000"/>
            <a:ext cx="7417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22400" y="1187280"/>
            <a:ext cx="63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design: fundamentals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0280" y="1989000"/>
            <a:ext cx="6489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DBMS, not OO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SA V1.0: Windows/SQL Server (“SkyServer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V2.0 may be the same, DB2, or 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age data stored as external flat files, not BL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but image metadata stored in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l attributes “not null”, ie. mandatory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chive curation information stored in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5001840" y="6308640"/>
            <a:ext cx="414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693080" y="189000"/>
            <a:ext cx="54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: spatial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7236000" y="692280"/>
            <a:ext cx="1908000" cy="1908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7238880" y="2708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6"/>
          <a:stretch/>
        </p:blipFill>
        <p:spPr>
          <a:xfrm>
            <a:off x="7238880" y="170028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7"/>
          <a:stretch/>
        </p:blipFill>
        <p:spPr>
          <a:xfrm>
            <a:off x="7238880" y="3716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8"/>
          <a:stretch/>
        </p:blipFill>
        <p:spPr>
          <a:xfrm>
            <a:off x="7238880" y="4724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9"/>
          <a:stretch/>
        </p:blipFill>
        <p:spPr>
          <a:xfrm>
            <a:off x="0" y="3803760"/>
            <a:ext cx="5148360" cy="30542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43720" y="1989000"/>
            <a:ext cx="697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M attribute HTMID for each occurrence of RA &amp; 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kyServer functions &amp; stored proced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spHTM_Lookup, spHTM_Cover, spHTM_To_Str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HTM_Cove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548720" y="260280"/>
            <a:ext cx="56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: table inde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5000" y="1052640"/>
            <a:ext cx="7946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RDBMS practice: index tables on commonly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“clustered” index per table based on primary key (defaul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results in re-ordering of data on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rther non-clustered ind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when indexing on more than one field, put in order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asing sel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HTM index attribute is included as most selective in at l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non-clustered index on appropriate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index files stored on different disk volumes to tables to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ise disk “thrash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&gt; experimentation required with real astronomical data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ries: SSA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043640" y="333360"/>
            <a:ext cx="65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SA V1.0 schema imple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9360" y="1628640"/>
            <a:ext cx="8052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&amp; constraint scripts are currently being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scripts will be finished mid-May ’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small refinements completed following close-out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utstanding metadata &amp; standard process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deadline: end Q3 ’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atial indexing scheme, functions &amp; scripts have b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tained from Sky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indexing is being prototyped using the S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SSA implemented end Q2 ’03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WSA indexing to be defined by end Q3 ’03 (refinement to 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ce during first few months of archive ope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908720" y="260280"/>
            <a:ext cx="503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.0 WSA: the R&amp;D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28480" y="1413000"/>
            <a:ext cx="7818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2 ’03 to Q1 ’04: V2.0 hardware/OS/DBMS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vestigations as to relative merits of different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NeSC meeting on 8/4/03; representatives from IBM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further meetings planned (eg. July with Szalay &amp; Gr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ever: note that relational design and implementation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 as for V1.0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excep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spatial 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&gt;  using SSA (few hundred Gbytes), implemented in DB2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acle on borrowed hardware (eg. Initially an MP mach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investigate scalability issues &amp; implementation of HT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ALPix and native spatial indexing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026360" y="6516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 Science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04960" y="2050920"/>
            <a:ext cx="74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FCAM Science Archive: curation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026360" y="6516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 Science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42200" y="981000"/>
            <a:ext cx="32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ation tasks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63000" y="1989000"/>
            <a:ext cx="6994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uration will take place within the DB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updates, eg. daily ing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processing, eg. source mer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database-driven products, eg. list-driven phot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RAD + “20 Usages”  =&gt;  curation us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20 curation use cases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17/20 required for V1.0 (3/20 not needed until V2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V1.0: 9 priorit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6 priority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 priority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026360" y="6516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 Science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70560" y="981000"/>
            <a:ext cx="338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ation task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45560" y="1844640"/>
            <a:ext cx="7654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gorithms &amp; proced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16/20 required algorithms &amp; procedures already ex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 the remaining 4/20 require (simple) scripting from scr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le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all tasks require to communicate with the DBMS (even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to log curation ev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4 tasks require bulk data transport from the Lin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ss-storage server to the DBMS load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12 tasks operate wholly on the load server; of these,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ire large-scale data manipulation and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026360" y="6516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 Science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6040" y="476280"/>
            <a:ext cx="64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ation software: core routines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75480" y="16225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55640" y="1197000"/>
          <a:ext cx="7777080" cy="4743360"/>
        </p:xfrm>
        <a:graphic>
          <a:graphicData uri="http://schemas.openxmlformats.org/drawingml/2006/table">
            <a:tbl>
              <a:tblPr/>
              <a:tblGrid>
                <a:gridCol w="863640"/>
                <a:gridCol w="691344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orithm and/or proced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eMagick FITS to JP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dF appl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“            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ptive kernel PSF-matched difference imaging (Bond et al, 2001, MN 327 86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 as implemented in Sky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photometric solution, eg. SSS (Hambly et al, 2001, MN 326, 129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ge algorithm as used in SSS (Hambly et al, 2001, MN 326, 131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U processing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ion astrometry as used in SSS (Hambly et al, 2001, MN, 326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026360" y="6516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 Science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13120" y="476280"/>
            <a:ext cx="65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ation software: core routine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575480" y="16225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755640" y="1413000"/>
          <a:ext cx="7777080" cy="4324320"/>
        </p:xfrm>
        <a:graphic>
          <a:graphicData uri="http://schemas.openxmlformats.org/drawingml/2006/table">
            <a:tbl>
              <a:tblPr/>
              <a:tblGrid>
                <a:gridCol w="863640"/>
                <a:gridCol w="691344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orithm and/or proced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strometric solution, eg. SSS (Hambly et al, 2001, MN, 326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dF appl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U pixel analysis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“             “              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CU 6 to CU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yServer functions, eg. fGetNearby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U pixel analysis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026360" y="6516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 Science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63280" y="76500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2—K)  difference  imag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539640" y="2133720"/>
            <a:ext cx="2543400" cy="25527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3276720" y="2133720"/>
            <a:ext cx="2552760" cy="25527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6012000" y="2133720"/>
            <a:ext cx="2552400" cy="25527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971640" y="486900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rrow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780720" y="48690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adb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26200" y="4869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ce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57480" y="126828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design: fundamental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5560" y="2276640"/>
            <a:ext cx="7594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ibration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oefficient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stored for astrometry &amp; phot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instrumental quantities stored (XY in pix; flux in AD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calibrated quantities stored based on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urr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all previous coefficients and versioning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026360" y="6516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 Science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684360" y="1425600"/>
            <a:ext cx="7524720" cy="54324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548720" y="836640"/>
            <a:ext cx="60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S global photometric 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026360" y="6516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 Science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179280" y="1197000"/>
            <a:ext cx="6097680" cy="48942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691640" y="476280"/>
            <a:ext cx="55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SS astrometric recalib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05320" y="2349360"/>
            <a:ext cx="2942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w-level syst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averaged re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r 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ror map to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s using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s to deter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per 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026360" y="6516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 Science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92360" y="836640"/>
            <a:ext cx="55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: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5920" y="1916280"/>
            <a:ext cx="8393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 &amp; implement existing and/or externally written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avy data manipulation, eg. large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rge, sparse matrix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fficient so as to be sca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rtable (for V1.0 </a:t>
            </a: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V2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bination of “glue” scripts and application codes/function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026360" y="6516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 Science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67640" y="105264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: details &amp; outstanding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26200" y="2060640"/>
            <a:ext cx="2616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rip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Perl &amp;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Pyth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lication co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fortran/C/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Jav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Perl D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ODBC/JDB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68760" y="2708280"/>
            <a:ext cx="326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A will be used a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-bed to investi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lative meri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choic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ularly as reg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026360" y="6516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 Science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048760" y="765000"/>
            <a:ext cx="46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ation tasks: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47000" y="1557360"/>
            <a:ext cx="7529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lementation details need to be finalis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proto-SSA already available for tests of W2K/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fac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full SSA implemented by end Q2 ’03 for scalability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details to be finalised as part of code development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 Qs 2 &amp; 3 ’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gorithms/procedures exist for 16/20 cur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/20 are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1.0 curation software completion by mid Nov ‘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340000" y="1341360"/>
            <a:ext cx="43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bration (continue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2840" y="2276640"/>
            <a:ext cx="763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trome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celestial RA/Dec at equinox J200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zenith polynomial or tangent plane projection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D”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low-level, 2D distortion maps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spatial index attributes for occurrence of celestial co-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103480" y="826920"/>
            <a:ext cx="43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bration (continue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6640" y="1773360"/>
            <a:ext cx="8108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hotometry: standard IR calibration (eg. 2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second order terms in temporal drift and airmass 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ightl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extinction values in a given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detector-based zeropoints in a given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additional “softening” parameter for non-standard “luptitu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low-level, 2D photometric flatness maps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65320" y="1042920"/>
            <a:ext cx="66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design: fundamentals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7200" y="1916280"/>
            <a:ext cx="7353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runs: reprocessed imag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same observations yield new source attribut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reingest, but retain old paramete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peats: better measurements of the same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eg. stacked image det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again, retain old paramete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uplicates: same source &amp; filter but different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eg. overlap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stor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data, and flag “bes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94040" y="1042920"/>
            <a:ext cx="66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design: fundamentals (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0480" y="1989000"/>
            <a:ext cx="7797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KIDSS  = &gt;  WSA Usages + JAC top-level S.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SA Usages + JAC top-level S.R.  = &gt;  S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uration use cases + SRAD  = &gt;  WSA relation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erimentation is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vit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expect to iterat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relational design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enhance based on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&gt;  SuperCOSMOS Science Archive: WSA V1.0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9:07:51Z</dcterms:created>
  <dc:creator>Nigel Hambly</dc:creator>
  <dc:description/>
  <dc:language>en-US</dc:language>
  <cp:lastModifiedBy>Nigel Hambly</cp:lastModifiedBy>
  <dcterms:modified xsi:type="dcterms:W3CDTF">2003-04-14T09:31:10Z</dcterms:modified>
  <cp:revision>25</cp:revision>
  <dc:subject/>
  <dc:title>Slide 1</dc:title>
</cp:coreProperties>
</file>