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18300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337-7988-4A80-B445-2D1B4859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EA3-F023-4F26-875D-263DC04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DD3-32E1-4507-A4AF-724712B6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423-09A5-46C6-A765-E3C880E8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AE9-1EDB-492E-9A4C-C36F370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9F5-C0A8-462D-8A65-0A08AFF1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3BD-1087-4462-949C-CBFFC98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28C-35C8-4B1B-8E2F-11DDDE87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C45-5502-45FA-A4DC-601FA5E1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03B-7F2A-470C-8818-C67A8CE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371-53D4-4F6E-A792-F4DCE68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62F-BA6C-44D6-B76C-75D4441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383-4BC2-4927-9616-22B8AF31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19280" y="2500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and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16000" y="692280"/>
            <a:ext cx="6172200" cy="5572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18720" y="40244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CAM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80360" y="5942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177336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22050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 Build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1125360"/>
            <a:ext cx="1009800" cy="609840"/>
          </a:xfrm>
          <a:prstGeom prst="wedgeEllipseCallout">
            <a:avLst>
              <a:gd name="adj1" fmla="val -44337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1628640"/>
            <a:ext cx="71280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of Version 1 Build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SRAD + 20 “Usages of the WFCAM Science Arch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20 “Curation Use cases” to identify work pack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ieces of code, scripts)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required for each work packag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ackages allocated to staff member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ies (internal and external) no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veloped: Gantt chart and Quarterly work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1628640"/>
            <a:ext cx="69850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 1 Build phase (a) April -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SA = SuperCosmos Sky Archive (1.26 TB)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Server on WFCAM Science Archiv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working service to users and developer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 prior to arrival of many TB of WFCA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DB schemas and develop source inges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imag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500280"/>
            <a:ext cx="360360" cy="360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258920" y="1274760"/>
            <a:ext cx="6192720" cy="496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28880" y="639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Build phase – (a) April-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24720" y="3645000"/>
            <a:ext cx="1295280" cy="863640"/>
          </a:xfrm>
          <a:prstGeom prst="wedgeEllipseCallout">
            <a:avLst>
              <a:gd name="adj1" fmla="val -61273"/>
              <a:gd name="adj2" fmla="val 52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A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1628640"/>
            <a:ext cx="748836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 1 Build phase (b) July -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development of ingest / Curation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development of User 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and install pixel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SA as test-bed for Curation &amp; User 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parallel, continue work on DBMS (Oracle, DB2) testing for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26920" y="907920"/>
            <a:ext cx="7472520" cy="520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51440" y="4968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Build phase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5640" y="2060640"/>
            <a:ext cx="748836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1 Integration &amp; Test : Nov -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y components will have been tested using 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pixel store access with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maining components and prepare for WFCA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900000" y="620640"/>
            <a:ext cx="6172200" cy="5572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218720" y="40244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CAM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80360" y="5942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2133720"/>
            <a:ext cx="2448000" cy="1150920"/>
          </a:xfrm>
          <a:prstGeom prst="wedgeEllipseCallout">
            <a:avLst>
              <a:gd name="adj1" fmla="val -66990"/>
              <a:gd name="adj2" fmla="val 93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st commission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000" y="1628640"/>
            <a:ext cx="6985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SA Version 2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of scalability and DBMS concurrent with V1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or V1, used SRAD + 20 “Usages of the W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20 “Curation Use cases” to identify work pack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ieces of code, scripts) required and effort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include migration to different RDBMS if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ot a large component as hard work all been done!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design to be prepared for reviewed in April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47640" y="141300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93400" y="2781360"/>
            <a:ext cx="685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reflects VDFS funding by G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FS : PI : Emerson + Management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(VDFS co-I) &amp; McMahon (VDFS co-I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wart (VPO), Irwin (CASU), Williams (WF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provided through WFAU rolling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1628640"/>
            <a:ext cx="525636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92360" y="1773360"/>
            <a:ext cx="5313240" cy="4003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45760" y="907920"/>
            <a:ext cx="47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d as a part of V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0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060640"/>
            <a:ext cx="66978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FAU staff working on Archive meet weekly  to review progress and allocat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s of these meetings are provided to PI + Management Team and available to J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FAU Manager reports progress against plans to PI + Management Team every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work plans and deliverables are scrutinised and plans revised as necess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to Grid Steering Committee each ~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12536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chy of time-scales to track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395280" y="981000"/>
          <a:ext cx="8439120" cy="51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981000"/>
                    <a:ext cx="843912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983840" y="42372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Q2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61657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. Gan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03280" y="1700280"/>
            <a:ext cx="66866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staff share information using the WFAU Twiki collaborative WWW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and informal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from external meetings and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set-ups and hardware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not public documentation so can be fra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ut commercially sensitive mate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4508640"/>
            <a:ext cx="73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ocumentation is maintained on WFCAM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40000" y="836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: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557360"/>
            <a:ext cx="655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taff Effort (2.5 FTE) through WFAU grant for Arch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b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% to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tor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Gilliv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ther WFAU effort, which assists Archive 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Gilliv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%,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tor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%,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%,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ssistance and advice, especially DBMS, from Mann (WFAU, NeSC and AstroGrid), also NeSC, University, Oracle, IBM and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97960" y="1380960"/>
            <a:ext cx="41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: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61960" y="2224080"/>
            <a:ext cx="618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studies use equipment provided by Univers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EI awards, WFAU PPARC Rolling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ccess tests use equipment loaned by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quired for Archive discussed tom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56200" y="118728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215280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and librarie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standards: follow ALMA (but C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VS (provided by UKA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javadoc and doxygen for source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412360" y="148428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270828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register will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internal / external risk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elihoo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c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act (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ation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900000" y="1397160"/>
          <a:ext cx="7632720" cy="4568760"/>
        </p:xfrm>
        <a:graphic>
          <a:graphicData uri="http://schemas.openxmlformats.org/drawingml/2006/table">
            <a:tbl>
              <a:tblPr/>
              <a:tblGrid>
                <a:gridCol w="3167280"/>
                <a:gridCol w="360360"/>
                <a:gridCol w="360360"/>
                <a:gridCol w="360360"/>
                <a:gridCol w="3384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 illness or loss of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-scope, delay lower priority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in delivery of V1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on critical path 1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A implementation underestim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on critical path 1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 Server not sufficiently sca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by production of SSA prototype (1.26 T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 Relational model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plan to CDR, seek advice SDSS &amp; DBMS cont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too slow / expensive  for data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imilar method as for JAC to CASU data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U / external tools 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preliminary versions 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900000" y="1397160"/>
          <a:ext cx="7632720" cy="4019400"/>
        </p:xfrm>
        <a:graphic>
          <a:graphicData uri="http://schemas.openxmlformats.org/drawingml/2006/table">
            <a:tbl>
              <a:tblPr/>
              <a:tblGrid>
                <a:gridCol w="3167280"/>
                <a:gridCol w="360360"/>
                <a:gridCol w="360360"/>
                <a:gridCol w="360360"/>
                <a:gridCol w="3384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logue data trawl rate too s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 design for 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agree JAC-CASU meta-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 out through Management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make interfaces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 specialist ad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xel processing tools f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 local/external ad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in delivery of pixel store hard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on critical path for 1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47640" y="1341360"/>
            <a:ext cx="60487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 and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A is part of VDFS, funded through GSC as part of a PPARC Rolling Grant for the  programme of Wide Field Astronomy and e-Science in the If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 and UKIDSS stakeholders requiring Science Archive for successful exploitation of WF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58920" y="836640"/>
            <a:ext cx="619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and design follow an incremental approach, building on SSS, 6dF work to make best use of staff experience and mitigat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cludes tracking progress on hierarchy of timescales and is integrated with that of the WFCAM pipeline through the VDFS Managemen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628640"/>
            <a:ext cx="74167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ject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of Science Requiremen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ience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ed and agreed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oid specification cr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42920" y="1628640"/>
            <a:ext cx="74167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definition : a phas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 : available for WFCAM first light 2003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2 : benefit from concurrent evaluation of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 for large scientific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TA SA : to fol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58920" y="692280"/>
            <a:ext cx="720072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dates for the whole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FCAM CDR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p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SA SRAD agreed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c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A 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 (V1 prototyp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A V1 op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A V2 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A V2 op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TA SA Phase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TA SA op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42920" y="642960"/>
            <a:ext cx="6172200" cy="5572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18720" y="40244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CAM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0360" y="5942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1240" y="134136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le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052640"/>
            <a:ext cx="360036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definition : Vers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&amp; Design phase - leading to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 Build phase – 2003 April –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 Integration &amp; test phase – to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36320" y="1290600"/>
            <a:ext cx="66207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 1 Analysis &amp; Desig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Scie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of SRAD to UKIDSS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design: dataflow, DBMS sch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of disk access and data transfer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CDR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April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07:51Z</dcterms:created>
  <dc:creator>Nigel Hambly</dc:creator>
  <dc:description/>
  <dc:language>en-US</dc:language>
  <cp:lastModifiedBy>Peredur Williams</cp:lastModifiedBy>
  <dcterms:modified xsi:type="dcterms:W3CDTF">2003-04-15T09:44:56Z</dcterms:modified>
  <cp:revision>4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3331514</vt:r8>
  </property>
  <property fmtid="{D5CDD505-2E9C-101B-9397-08002B2CF9AE}" pid="3" name="_AuthorEmail">
    <vt:lpwstr>pmw@roe.ac.uk</vt:lpwstr>
  </property>
  <property fmtid="{D5CDD505-2E9C-101B-9397-08002B2CF9AE}" pid="4" name="_AuthorEmailDisplayName">
    <vt:lpwstr>Peredur Williams</vt:lpwstr>
  </property>
  <property fmtid="{D5CDD505-2E9C-101B-9397-08002B2CF9AE}" pid="5" name="_EmailSubject">
    <vt:lpwstr>WSA review presentations</vt:lpwstr>
  </property>
</Properties>
</file>